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60F-679D-4562-818C-2B9F34B7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7CF-2849-4F96-8FB9-1577118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A18-35C0-494C-9297-8C2B90E1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33-A15E-453B-8A16-4EF44649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AE41-2919-4A23-AC08-F3A4032D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8450-F182-4F1F-BEB3-98F5A659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5C08-2655-47D0-86EC-8BC21152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AB5-0C5C-4613-B157-140D707F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5FC5-867B-4D33-99FC-3DEB374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2A0-1A20-40F3-B971-9E1149E5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CF94-D3A2-499E-B010-0A103F7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FDB-D0A8-4996-A6DB-D17E9F5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D76-2C58-405C-8B80-F4123C4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18F9-571F-4DD3-8089-8D206C1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8343-50B0-40CE-9758-13C33D4E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EE0-50E4-4C6C-A30B-409DB398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0C8A-0589-4C8B-99C7-FEF8A1B0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437F8-7DD0-4181-8B74-31BEE9B9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736F8-3B40-4797-8AAF-47683EA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087C7-5B87-430E-9F7C-34DE730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72FF3-D157-49B0-BF4B-B4A16AF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9ADE9-00DD-440B-B40A-1EAFFB4B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4A5-4EAB-4348-9A90-2C26F38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FC9AC-66FC-4A07-976C-6122F6D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5E3D3-1EA1-4E65-B0D3-B5468493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D0799-1AE5-414A-8A33-264F17B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96468-082E-44CD-9D1E-1012B6A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00DA5-1CFB-4B91-B326-875CB21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ADF4F-4904-4009-A3DC-B5D02363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4D696-FF41-40F6-A490-75F58151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ADAE-EE37-420F-B6AB-B8E4659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5EBA-BA9E-4BE6-BC45-F23C13A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2721-ABDF-4224-92E1-3E769F1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F0C-B453-4B54-BF2E-13A62302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739C-58D0-4738-B9CD-CDD7F47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4BE4-8232-4815-9757-105FD43C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9BCB-2585-4C41-A520-34422C56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DC61-49E1-4CE0-BDEC-A055B37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473C-1A65-43DB-9398-AE2936B5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4DFA-42ED-4DEB-8577-AE0E249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7BAF-7F90-4746-A0AF-81FF077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1F9E-E5AD-40AB-BA97-11D26B1A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48E2-7875-412D-95EF-A945BB2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AD965-BB28-4FE7-AA3A-955B510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946-7EDD-4FF2-839B-6010B2CD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DF836-AF86-4B6E-8997-970CBD03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38854-43B7-4BBE-9687-48756026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3F583-ECB0-40B6-A113-BB91AEB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9F89D-213D-4322-A286-B8262030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BEDA8-1BA5-4126-BE54-FE77965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A3E07-A497-4BCD-8270-D44F586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07E5E-B512-4061-884A-74D010E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3C08B-E4E3-4C1D-A35E-51B4CBD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E2503-3828-44A8-8797-6DFE4A3C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4E9DD-95A9-41DE-AEBA-1FD253B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215-A1FB-4097-960D-AB4AB1B3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92DE6-AE78-40A1-B981-006DB192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6045E-2854-49D7-B8E1-D20FA8AF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DF047-658E-4C0B-A64D-7BC3CA3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D7258-2D77-458C-BE22-CBAA370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BB903-4DD5-4B5D-83A3-DF7977E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69463-32CD-45A1-81E5-0DD97D7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AAF59-A1C1-4749-A559-C67B2E5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DC988-6B3D-40F9-8D03-0218A80B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FDDFB-998C-462A-9EC2-1345C95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F75AB-BB9F-4D69-9AF9-01E7CF5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5C6-A6C2-404D-94F1-9ABB023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5E316-89BD-4C1C-8E95-8B5CF53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F2681-D044-4ECE-90B7-13013219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44CB3-AA13-4CC7-97C6-6F51FD08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22306-56B9-46CE-9692-70BB9449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529E7-204E-46EE-87D5-EA58BFC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8215F-4D44-4673-8267-3678775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C6F87-29DC-4D5F-98A3-F50518E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2224F-4D97-49FB-A8B3-92B35EB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D024A-94D8-4797-8A72-5193E72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8AB21-6819-4A84-B92F-040D446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091-BA65-462A-9604-BC46CF3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92A18-BBAE-4A66-9451-777C24E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538ED-6714-4D7B-B96C-502B9822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5A4DA-006F-42E6-8813-82AD5E3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C4628-2F3E-48C9-A3EF-11C9889D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5790C-1329-4453-BC0A-CFA6D713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3D9-831B-4E05-BE36-533919B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DA9F-EA34-4E1B-9659-EBB45D8DFF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9C10-C176-47DD-83B7-7A2277C7FC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595B-DBCA-4594-92D7-3A7FC6CE1E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B30D-01DC-41C8-B4DB-D3F455E84A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4CB4-ED08-4F7C-9C6B-D33548306F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5EEF-512E-4A6F-9EA7-6DE22358F0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64A5-97A2-4719-87E8-D5CE223DFF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NDUSTRIAL REVOLUTION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5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ctober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RIGHTS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ghts are legal, social, or ethical principles of freedom or entitlement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asuring s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inked to human dig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NDS OF 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Freed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OUR  &amp; SOCIAL 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labour &amp; social rights should we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did not exist before the Industrial R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CIAL CHANGE LEADS TO POLITICAL CHAN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ians react to changes that hav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lready occurr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society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TCOME 2.1.1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tudents will know, understand and be able to explain the new ideas and innovations which led to the Industrial Rev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CEP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tled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Working Cla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Class Confli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Urbaniz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Labour Mov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Proper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Righ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PERTY (PRA-PUR-TEE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s any physical or intangible entity that is owned by a person or jointly by a group of people or a legal entity like a corporation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RADITIONAL PRINCIPLES OF PROPERTY RIGHTS INCLUD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trol of the use of the proper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right to any benefit from the property (examples: mining rights and ren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right to transfer or sell the proper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right to exclude others from the propert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TRADITIONAL PROPERTY RIGHTS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DO NOT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INCLUDE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s that unreasonably interfere with the property rights of another private party (the right of quiet enjoymen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s that unreasonably interfere with public property rights, including uses that interfere with public health, safety, peace or convenie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NDS OF PROPER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ngible Proper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rovements (man-made, immovable thing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onal property (moveable, man-made thing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angible Proper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ancial Instruments (stocks, bond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llectual Property (patents, copyrights, trademark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HN LOCKE &amp; “NATURAL RIGH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Nature + Labour = Property*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as long as there is "enough, and as good, left in common for others.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PERTY:  OUT OF REACH FOR M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udalism &amp; Middle 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ded Clas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Property to make mone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 is likely to have mone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chance does someone who is poor have to become rich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0:12:39Z</dcterms:created>
  <dc:creator>ED18</dc:creator>
  <dc:description/>
  <dc:language>en-US</dc:language>
  <cp:lastModifiedBy>Greg Peters</cp:lastModifiedBy>
  <dcterms:modified xsi:type="dcterms:W3CDTF">2012-10-03T12:50:48Z</dcterms:modified>
  <cp:revision>9</cp:revision>
  <dc:subject/>
  <dc:title>Industrial Revolution An Introduction</dc:title>
</cp:coreProperties>
</file>